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5F7-5982-4935-B2AE-BA1A86A3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258-C49D-47AF-963D-99B2882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358-8C15-4792-A11B-93A0F853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988-9BB9-4F3C-8526-EA9FB35C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B9C-FD28-4C32-9FC3-59BF071B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F1D-1698-4EDE-860A-08F9B61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80D-A208-49EF-923E-9B5ED8FE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6A0-9989-4F8E-8EFB-EC6164FD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611-0425-4ED8-AFBC-52F02D4A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39C-9349-4B29-A115-1E5BA21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8F4-D744-42AD-AFBB-457FB45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50E-F74F-4D70-A1DF-A9C4453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C67-6A3B-47FC-9DEB-4627DAEEE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БПОУ «Миасский медицинский колледж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14720"/>
            <a:ext cx="640080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К методической разработ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актического занятия №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ема:</a:t>
            </a:r>
            <a:r>
              <a:rPr b="1" i="1" lang="ru-RU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«</a:t>
            </a:r>
            <a:r>
              <a:rPr b="1" lang="ru-RU" sz="2200" spc="-1" strike="noStrike">
                <a:solidFill>
                  <a:srgbClr val="4f81bd"/>
                </a:solidFill>
                <a:latin typeface="Times New Roman"/>
              </a:rPr>
              <a:t>Изучение морфологии бактерий</a:t>
            </a:r>
            <a:r>
              <a:rPr b="0" lang="ru-RU" sz="2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076720" y="4508640"/>
            <a:ext cx="34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Times New Roman"/>
              </a:rPr>
              <a:t>В.В. Корниенко, 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</a:rPr>
              <a:t>Алгоритм приготовления мазка из зубного налёт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4.Мазок окрасить  простым методом - метиленовым синим, держать 1-2 мину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5.Промыть вод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6.Высушить фильтровальной бумагой и на возду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7.Микроскопиро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8388360" y="6237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</a:rPr>
              <a:t>Практическая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.Устройство микроско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2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Техника приготовления микропрепа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</a:rPr>
              <a:t>Нанесение м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Высушивание м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Фиксация м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Окра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Алгоритм приготовления мазка из зубного нал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Устройство микроско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C:\Users\AAA7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214200" y="1143000"/>
            <a:ext cx="3786480" cy="4478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4071960" y="3014640"/>
            <a:ext cx="48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-окуляр; 2- монокулярная насадка; 3-револьвер; 4-обективы; 5-предметный столик; 6-конденсор;7- коллектор в оправе; 8- рукоятка перемещения кронштейна конденсора; 9-рукоятка тонкой фокусировки; 10-рукоятка    грубой  фокусировки; 11- штатив; сетевой шнур; 13-винтовой упор (ограничитель перемещения предметного столика при фокусиров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8388360" y="6237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</a:rPr>
              <a:t>Техника приготовления микропрепара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1.Нанесение ма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2.Высуш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3.Фикс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4.Окра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8388360" y="6237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Необходимым условием для работы является наличие чистых и обезжиренных стеко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1.Нанесение мазка на</a:t>
            </a:r>
            <a:r>
              <a:rPr b="1" lang="ru-RU" sz="3200" spc="-1" strike="noStrike">
                <a:solidFill>
                  <a:srgbClr val="4f81b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поверхность предметного стек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ploliiiiiiii[1]"/>
          <p:cNvPicPr/>
          <p:nvPr/>
        </p:nvPicPr>
        <p:blipFill>
          <a:blip r:embed="rId1"/>
          <a:stretch/>
        </p:blipFill>
        <p:spPr>
          <a:xfrm>
            <a:off x="2484360" y="1424160"/>
            <a:ext cx="4248360" cy="39258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8388360" y="6237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</a:rPr>
              <a:t>2. Высушивание маз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Высушивание ма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Мазок высушивают на воздухе при комнатной температуре. В случае необходимости его можно высушить около пламени горелки. Держа стекло в горизонтальном положении за края большим и указательным пальцами мазком ввер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8388360" y="6237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</a:rPr>
              <a:t>3. Фиксация маз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Мазки фиксируют после полного высыхания с цель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1. Закрепить микроорганизмы на стекл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2.Обезвредить матери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3. Убитые микроорганизмы лучше воспринимают окраску. Фиксированный мазок называется препара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f81bd"/>
                </a:solidFill>
                <a:latin typeface="Times New Roman"/>
              </a:rPr>
              <a:t>Фиксируют в пламени горелки: стекло берут пинцетом или большим указательным пальцами и троекратно проводят через верхнюю часть пламени горелки в течение 6 секун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8388360" y="6237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</a:rPr>
              <a:t>4.Окрас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Для того чтобы увидеть микроорганизмы, их необходимо окрасить. Существуют простые и сложные методы окрашивания микроорганиз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При простом способе окрашивания на мазок наносится один краситель, например метиленовый синий или фуксин Пфейфферена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8317080" y="6165720"/>
            <a:ext cx="473040" cy="287640"/>
          </a:xfrm>
          <a:prstGeom prst="rightArrow">
            <a:avLst>
              <a:gd name="adj1" fmla="val 50000"/>
              <a:gd name="adj2" fmla="val 4111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</a:rPr>
              <a:t>Алгоритм приготовления мазка из зубного налёт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1.Небольшое количество зубного налёта снять шпа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2.Растереть на предметном стекле размером с пятикопеечную мон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Times New Roman"/>
              </a:rPr>
              <a:t>3.Мазок зафиксировать путём трёхкратного проведения над пламенем горелки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7:10:53Z</dcterms:created>
  <dc:creator>Andr</dc:creator>
  <dc:description/>
  <dc:language>en-US</dc:language>
  <cp:lastModifiedBy>qweq</cp:lastModifiedBy>
  <dcterms:modified xsi:type="dcterms:W3CDTF">2021-03-18T17:45:27Z</dcterms:modified>
  <cp:revision>13</cp:revision>
  <dc:subject/>
  <dc:title>Устройство микроскопа</dc:title>
</cp:coreProperties>
</file>